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94E1-F81F-4823-829C-539B2D43C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349F-34B3-4189-BD44-0ECB92FE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5D7C-7E30-4349-8842-ADD473D81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C51A-3B32-421C-ADE9-1A38240E3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FBB9-1338-4D02-9BD8-6CFDC82B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15EE-3BF4-44B6-A2D0-1EB4D091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7D63-7BAE-4180-9B49-91E18AC6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5FEC-C3CB-44A4-B590-C085B6AB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C16C-BAEF-4994-97BF-DC204BF0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2BEC-8047-48CA-B675-425D6ABB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588B-59EB-43B4-9C0F-1F95855E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1C4F-E31C-4731-99F0-6C4454E8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D6F5-9942-40E2-A215-302594712E6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7848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Referente cinematográfico de Edipo R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57909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aula Zaragoza Balle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C:\Documents and Settings\eselza\Escritorio\referents\edipo-esfinge.jpg"/>
          <p:cNvPicPr/>
          <p:nvPr/>
        </p:nvPicPr>
        <p:blipFill>
          <a:blip r:embed="rId1"/>
          <a:stretch/>
        </p:blipFill>
        <p:spPr>
          <a:xfrm>
            <a:off x="2744640" y="1905120"/>
            <a:ext cx="3578400" cy="3609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La trage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sta tragedia cuenta la historia de Edipo, que abandonado por sus padres y guiado por las predicciones de los oráculos acaba matando a su padre Layo y casandose con su propia madre. La investigación que lleva a cabo acabara por implicarle directamente con los hechos. La tragedia deja el final abierto, por lo que es referente de cine de aventuras e investig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Edipo re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a tragedia se puede separar 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redicción del oráculo y abandono del ni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Huida de su destino que le llevara al cruce de caminos donde mata a su verdadero pad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esolución del enigma que planteaba la esfi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atrimonio con Yocasta, su madre biolog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Investigación que le dara la clave de su propia culpabi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ueva predicción del oráculo que le posiciona como culpable de la muerte de su pad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uicidio de Yocas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Referente en el cin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ste referente deja películas en las cuales se preocupan por investigar para llegar al conocimiento verdadero. Este referente se resemantiza en películas de aventuras y tambíen de enredo o aventuras. Normalmente deja un final abierto para que se puede continuar. En el cine podemos encontrar varias películas que tienen este refere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a interpr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oderosa afrod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arnie la ladro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a caja de mús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a insoportable levedad del ser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C:\Documents and Settings\eselza\Escritorio\referents\la-interprete.jpg"/>
          <p:cNvPicPr/>
          <p:nvPr/>
        </p:nvPicPr>
        <p:blipFill>
          <a:blip r:embed="rId1"/>
          <a:stretch/>
        </p:blipFill>
        <p:spPr>
          <a:xfrm>
            <a:off x="6934320" y="2819520"/>
            <a:ext cx="1987560" cy="2860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Documents and Settings\eselza\Escritorio\referents\poderosaafrodita-300a.jpg"/>
          <p:cNvPicPr/>
          <p:nvPr/>
        </p:nvPicPr>
        <p:blipFill>
          <a:blip r:embed="rId2"/>
          <a:stretch/>
        </p:blipFill>
        <p:spPr>
          <a:xfrm>
            <a:off x="4971960" y="4038480"/>
            <a:ext cx="1836720" cy="2590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eselza\Escritorio\referents\52pic.jpg"/>
          <p:cNvPicPr/>
          <p:nvPr/>
        </p:nvPicPr>
        <p:blipFill>
          <a:blip r:embed="rId1"/>
          <a:stretch/>
        </p:blipFill>
        <p:spPr>
          <a:xfrm>
            <a:off x="380880" y="228600"/>
            <a:ext cx="2222640" cy="3111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Documents and Settings\eselza\Escritorio\referents\edipo2.jpg"/>
          <p:cNvPicPr/>
          <p:nvPr/>
        </p:nvPicPr>
        <p:blipFill>
          <a:blip r:embed="rId2"/>
          <a:stretch/>
        </p:blipFill>
        <p:spPr>
          <a:xfrm>
            <a:off x="4876920" y="304920"/>
            <a:ext cx="3657600" cy="29145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0" y="34290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28600" y="350532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Edipo apartado de su casa en su naci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791320" y="32767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Edipo y la esfin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7" descr="C:\Documents and Settings\eselza\Escritorio\referents\42pic2.jpg"/>
          <p:cNvPicPr/>
          <p:nvPr/>
        </p:nvPicPr>
        <p:blipFill>
          <a:blip r:embed="rId3"/>
          <a:stretch/>
        </p:blipFill>
        <p:spPr>
          <a:xfrm>
            <a:off x="2743200" y="609480"/>
            <a:ext cx="2014560" cy="34527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8"/>
          <p:cNvSpPr/>
          <p:nvPr/>
        </p:nvSpPr>
        <p:spPr>
          <a:xfrm>
            <a:off x="3352680" y="411480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Yocas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9" descr="C:\Documents and Settings\eselza\Escritorio\referents\laius_kidnapping_chrysippus_4.jpg"/>
          <p:cNvPicPr/>
          <p:nvPr/>
        </p:nvPicPr>
        <p:blipFill>
          <a:blip r:embed="rId4"/>
          <a:stretch/>
        </p:blipFill>
        <p:spPr>
          <a:xfrm>
            <a:off x="5410080" y="3657600"/>
            <a:ext cx="3200400" cy="27338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0"/>
          <p:cNvSpPr/>
          <p:nvPr/>
        </p:nvSpPr>
        <p:spPr>
          <a:xfrm>
            <a:off x="6400800" y="64008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Yocasta y La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1" descr="C:\Documents and Settings\eselza\Escritorio\referents\lucha_edipo.jpg"/>
          <p:cNvPicPr/>
          <p:nvPr/>
        </p:nvPicPr>
        <p:blipFill>
          <a:blip r:embed="rId5"/>
          <a:stretch/>
        </p:blipFill>
        <p:spPr>
          <a:xfrm>
            <a:off x="380880" y="4343400"/>
            <a:ext cx="2971800" cy="2225520"/>
          </a:xfrm>
          <a:prstGeom prst="rect">
            <a:avLst/>
          </a:prstGeom>
          <a:ln w="0">
            <a:noFill/>
          </a:ln>
        </p:spPr>
      </p:pic>
      <p:sp>
        <p:nvSpPr>
          <p:cNvPr id="62" name="11 Flecha izquierda"/>
          <p:cNvSpPr/>
          <p:nvPr/>
        </p:nvSpPr>
        <p:spPr>
          <a:xfrm>
            <a:off x="4000680" y="6000840"/>
            <a:ext cx="714240" cy="500040"/>
          </a:xfrm>
          <a:prstGeom prst="leftArrow">
            <a:avLst>
              <a:gd name="adj1" fmla="val 50000"/>
              <a:gd name="adj2" fmla="val 49993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16:32:34Z</dcterms:created>
  <dc:creator>eselza</dc:creator>
  <dc:description/>
  <dc:language>en-US</dc:language>
  <cp:lastModifiedBy>pc</cp:lastModifiedBy>
  <dcterms:modified xsi:type="dcterms:W3CDTF">2010-05-19T16:13:20Z</dcterms:modified>
  <cp:revision>3</cp:revision>
  <dc:subject/>
  <dc:title>Referente cinematográfico de Edipo Rey</dc:title>
</cp:coreProperties>
</file>